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20E-E47A-4981-9836-F43331E9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8A0-60FB-43CE-B7C3-5540EA59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939-ABFF-482D-912F-57166548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E7B-3F23-4473-8991-BD98A542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29D6-64AF-4F20-BA34-ACF05D81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1C74-71EF-4DD6-9C7B-6875E569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058D-B2CD-4D4A-B46B-5FBB242C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ECF7-0CFA-4479-8804-9E79E07C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B744-0093-4487-9F44-9CE7A967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A671-DD49-4531-B55F-B9CBAEDB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8F59-3EA2-4231-AB78-3060C2C5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150-84B2-41D0-8038-DAD8A1B7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D3AE-A3CB-4074-BA01-D892B8C2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713B-0517-4A29-979F-4777CEC2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D538-5598-4E6B-98A3-73C0AA52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7796-D8C5-4C92-A6CC-0BDC1612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B98D-1E26-465D-97ED-CF837CC6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0F27-AC57-407F-8909-729367E1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7C9-B2B4-4A58-AA18-3CF0A766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C30-575D-43C5-BD9B-B18062B1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46F-3A99-4B34-A0AB-3B0265B8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B27-337B-4495-BC5C-C22DF339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CD0F-043D-4CF0-9ADD-C1A7001A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443-1C42-443F-8CCC-F6A3DAC2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2921-7177-44C5-8BF4-B5D98669C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81E9-6780-4829-BA2F-E8242B0F5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Vertabrates and Invertabrat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the differe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1074600" cy="137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086600" y="-2057400"/>
            <a:ext cx="1444680" cy="1822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3600" y="4038480"/>
            <a:ext cx="2363760" cy="2505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?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s can be classified as either vertebrates or inverteb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erteb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 animal that has a backb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verteb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 animal that does not have a backb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448920" y="380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-1800360" y="304920"/>
            <a:ext cx="1800360" cy="1485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77 -0.18935 C 0.10695 -0.22107 0.15729 -0.25278 0.1842 -0.23241 C 0.21111 -0.21204 0.18872 -0.08218 0.21806 -0.06667 C 0.2474 -0.05139 0.32969 -0.16065 0.36007 -0.13982 C 0.39045 -0.11898 0.39358 0.025 0.40035 0.0581 E">
                                      <p:cBhvr>
                                        <p:cTn id="43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7:25:16Z</dcterms:created>
  <dc:creator>nbdoe</dc:creator>
  <dc:description/>
  <dc:language>en-US</dc:language>
  <cp:lastModifiedBy>nbdoe</cp:lastModifiedBy>
  <dcterms:modified xsi:type="dcterms:W3CDTF">2008-10-01T16:01:09Z</dcterms:modified>
  <cp:revision>6</cp:revision>
  <dc:subject/>
  <dc:title>Vertabrates and Invertabrates</dc:title>
</cp:coreProperties>
</file>